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CC95F10-B631-4C47-A9D9-2619DB6BA922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07B02D3-E95C-4EDB-9656-FA07F635BCBF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BBA9CDC-8E52-42BF-B0B4-068D9C8EB950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1835C88D-A422-47CA-92D4-9879938B030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3245435F-466A-47FF-B26B-36D2E435D7A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B7A2-C100-4E4A-A316-01C6E77B5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E784-815D-463F-A529-19A61F6B4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5777-BEA7-4FF8-B925-B8252D814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DD59-2D94-45F0-BD79-9BAC5E9D0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DA28-CC76-41EB-AECF-BF08B0CF5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539C4-3A7E-4A91-B6A5-7320520E4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6E837-D238-44FA-83DE-93607F8654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3B86-007F-40DB-B27C-00F3D57CE8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8A3A2-39E1-40DB-A659-D0CCA6D68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982B2-B81A-4F1D-B278-83B914752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F234-13CC-4A44-AFBD-03BE65C5BC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7C4F7-BD2F-497D-B224-FBA2CE5FA5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8274E-4695-41A6-8A55-13512AAA5E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A67E-6B27-4AF0-9A8A-A3E564EF41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AD5B2-546C-4F3A-A372-DC69CC072D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776F2-8559-4ACE-B85F-C7BFB8138E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54938-27C6-49B1-8078-EE349E7E75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B7459-22FF-4773-B96E-3098BF326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F123-39C3-4B41-A65D-2A2F97C52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2AD8-9FB3-47CB-8F26-9962AE5A6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18B5-BE6B-46E0-8D34-AF5ED2CBC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09F0-9BBF-48B8-8487-3FA5B8BB2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7EC9-ABC5-4E75-8B13-C84B9FA58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975A-804E-47BC-92C6-3F3AD1F85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0F0E5-47E0-41A6-900A-2AB165FC96A5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5DFF6-10A2-4221-9D0A-A60A848446D5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-200520" y="5840280"/>
            <a:ext cx="297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GRL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9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00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CD106-078B-4CCE-99AB-5A614454DE2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sc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"/>
          <p:cNvSpPr/>
          <p:nvPr/>
        </p:nvSpPr>
        <p:spPr>
          <a:xfrm>
            <a:off x="287280" y="1405080"/>
            <a:ext cx="37004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orts on wind-energy potential produced in collaboration with EUPORIAS where both science and user requests meet in a single docume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CCDB3-05DA-4183-A190-DAD4589DF62A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4362480" y="860400"/>
            <a:ext cx="3821040" cy="52941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5099040" y="1619280"/>
            <a:ext cx="339840" cy="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525600" y="1392120"/>
            <a:ext cx="8089920" cy="4415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-driven port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DD7F1-6FD4-43E7-9695-7B8B9F3E18A2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34920" y="898560"/>
            <a:ext cx="90536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s://giotto.casaccia.enea.it/specs-solar/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-205560" y="5840280"/>
            <a:ext cx="4027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 Felice et al. (Appl. Energy, 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6B788-DA06-4717-9507-69F6B8CC7F95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6DC63-47EB-42A0-A227-A87D094D62A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A924-DFC0-4F15-8B31-94AD4E569D68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Text Box 9"/>
          <p:cNvSpPr/>
          <p:nvPr/>
        </p:nvSpPr>
        <p:spPr>
          <a:xfrm rot="19714800">
            <a:off x="328320" y="301572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All these functions and packages are publicly available without restric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EF4CB-D9A5-43AB-B6DB-77E09B238F5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crea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7EF6C-002F-4DAF-800B-2D218470FBF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s in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6241C-D92A-46F8-A1F9-887E932BB3C6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AC349-6F8F-4217-AA24-4067F80C484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16586-3B17-40B5-9BDE-AB217BAE342D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65756-4EB1-4244-9D66-9BB18525ECA8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589A7-9679-4415-AEB4-5ED6011FBE27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259560" y="5880240"/>
            <a:ext cx="29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GMD, 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17836-47CB-4AC5-950D-C321AF9042B8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SPECS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most 100 papers published or in p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coordinated prediction experi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s of terabytes of data available from B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C31DF-3E6E-4B5C-B860-512D4BE868A6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beyond usual outc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onvention defined for climate predictions to be full part of other climate data dissemination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imate prediction fact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ibution to portals, b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 beyond portals, focus on APIs (made public also for commercial purpo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1a0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xpert judgement cannot be made automatic in a forecast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5 February 2016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6-02-15T13:44:40Z</dcterms:modified>
  <cp:revision>465</cp:revision>
  <dc:subject/>
  <dc:title>Presentación de PowerPoint</dc:title>
</cp:coreProperties>
</file>